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A190-C6BD-4F72-B580-8590CACF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0926-F947-4822-BDE6-16BE1CB1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FBDD-6D09-478A-9952-71F94CEE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05E5-C6C0-4FAF-B6E6-54026E0C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E6A-AB05-425F-A990-91CC688D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4004-E2C6-4DB1-B4BC-3AA701A0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03C9-792B-4DFC-A123-9F85F019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D587-A41F-446C-9951-057EC71F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66E-85DE-423B-8389-DD64D1F0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AFB0-C907-4C82-8C2F-E555C567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B358-6E98-43FC-B431-C6AA8F23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ECD8-59D6-43DF-8EFD-B7655D1B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D9AA-C280-4DAB-9ECD-5B9371432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video.google.com/videoplay?docid=3707333237510048522&amp;ei=OLTQSZrmJ5KqrQK69unSCQ&amp;q=Water+Pollution&amp;hl=en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How Much Water Is Used (in gallons)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ake a prediction in your water pollution packet, then check out the next slide for the actual amou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496440" y="2514600"/>
            <a:ext cx="822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How many gallons when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taking a shower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2103480" y="2997360"/>
            <a:ext cx="49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25-50 gall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458280" y="2558880"/>
            <a:ext cx="822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How many gallons when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taking a bath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2652120" y="2997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50 gall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-456120" y="2170080"/>
            <a:ext cx="10056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How many gallons to wash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a small load of laundry in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a washing machin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2652120" y="2997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35 gall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-1155960" y="2170080"/>
            <a:ext cx="11519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How many gallons when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brushing your teeth and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running the water continuously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2469960" y="299736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2-5 gall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279360" y="923760"/>
            <a:ext cx="8559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ater Quality: It’s In Our Hand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Vide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click on slide show and start slide show—then click on the word video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-273240" y="2514600"/>
            <a:ext cx="969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How many gallons of water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to flush a toilet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2469960" y="299736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5-7 gall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818640" y="2558880"/>
            <a:ext cx="749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How many gallons to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run a dishwasher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103480" y="2997360"/>
            <a:ext cx="49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15-25 gall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-90360" y="2612880"/>
            <a:ext cx="93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How many gallons to wash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dishes by hand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2652120" y="2997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20 gall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829800" y="2558880"/>
            <a:ext cx="749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How many gallons to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water a small law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2652120" y="2997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35 gall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7:20:51Z</dcterms:created>
  <dc:creator>User</dc:creator>
  <dc:description/>
  <dc:language>en-US</dc:language>
  <cp:lastModifiedBy>User</cp:lastModifiedBy>
  <dcterms:modified xsi:type="dcterms:W3CDTF">2010-01-04T17:26:50Z</dcterms:modified>
  <cp:revision>1</cp:revision>
  <dc:subject/>
  <dc:title>How Much Water Is Used (in gallons)?</dc:title>
</cp:coreProperties>
</file>